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1ED-21DA-45EB-B4EB-5A90E50A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52E-2CDF-420E-86BD-52485112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9BA-F098-4CDC-A8A6-DEE69B7F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97C-7751-4DD5-B437-BB5CA03E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896B-EB20-42D7-A3B4-32B17C6D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4E95-763A-4AD5-8C9B-B580B5A5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929A-F413-483E-A5BB-0073684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5880-7BB8-4714-8235-70480D73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CBDD-E297-47C6-88C2-6DCFDDE9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4E97-FA06-4935-B359-43129DE9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83B8-9411-4170-A89F-1509FAEF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BE4-8F0A-4929-AFF7-1BE48B87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FC95-EB2A-4782-B11F-A3030D51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E44E-DC1B-4D39-9A00-C663434B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2BA3-A413-483B-9F46-B43B96B9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0A6C-CC6A-4F14-A69C-2643D4F8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3C7C-AB9B-4DBB-9889-2470885B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E55-51C0-4156-93D2-81CEF935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12F-401E-44BD-A0FE-A3BA2799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1BC-7096-46A2-9AB1-24643086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8E5-1997-45C5-88A6-D7B15E78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6AF-E95B-4ECF-BB24-FF1FD13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828-55A0-420A-B32C-761DD5D0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E43-B543-40FE-869C-01C3F0C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12F-59FA-4FDB-8225-5B98452061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4172-D252-48B9-B745-DE6F86C0A3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16280" y="669960"/>
            <a:ext cx="5940360" cy="551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42000" y="306864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81640" y="49150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57720" y="49150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527720" y="126828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72000" y="1808280"/>
            <a:ext cx="17964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46280" y="194328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37000" y="2798640"/>
            <a:ext cx="179280" cy="1796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2000" y="3924360"/>
            <a:ext cx="179280" cy="179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81280" y="617364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nauczyciel.wsipnet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06640" y="998640"/>
            <a:ext cx="5757840" cy="431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1280" y="23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27720" y="189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76640" y="1936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1640" y="387180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1280" y="418608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2432160"/>
            <a:ext cx="5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81640" y="364644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7360" y="3332160"/>
            <a:ext cx="5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46280" y="581508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kty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uż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5364000"/>
            <a:ext cx="41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ro.com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V="1">
            <a:off x="1646280" y="2214360"/>
            <a:ext cx="4635360" cy="238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32360" y="189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276640" y="684000"/>
            <a:ext cx="5805360" cy="103500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720" y="1314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67000" y="1719360"/>
            <a:ext cx="4725720" cy="1349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32360" y="14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7000" y="2933640"/>
            <a:ext cx="3014640" cy="14400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3080" y="3878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6280" y="5184720"/>
            <a:ext cx="71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e oznacza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łymi literami alfab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YBRANE WŁAŚCIWOŚCI PROST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76280" y="1537920"/>
            <a:ext cx="7156440" cy="1125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32000" y="1763640"/>
            <a:ext cx="4861080" cy="76536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627360" y="1854360"/>
            <a:ext cx="2879640" cy="449280"/>
          </a:xfrm>
          <a:prstGeom prst="line">
            <a:avLst/>
          </a:prstGeom>
          <a:ln w="1584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27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46640" y="1943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67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180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0" y="12240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36640" y="32446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każdej prostej należ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ele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57360" y="3789360"/>
            <a:ext cx="6975360" cy="112572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103640"/>
            <a:ext cx="3059280" cy="49536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2720" y="414972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6432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11280" y="5094360"/>
            <a:ext cx="67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dwa różne punkty przechodzi dokładni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edna pr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85920" y="5634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 n wyznaczona jest przez punkty K i L i oznaczmy symbolem KL i czyta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a 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07360" y="459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1646280" y="1133280"/>
            <a:ext cx="6570720" cy="306036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67000" y="1763640"/>
            <a:ext cx="6435720" cy="270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57720" y="458280"/>
            <a:ext cx="2384280" cy="41403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458640"/>
            <a:ext cx="2114640" cy="4500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414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7000" y="368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67720" y="954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07360" y="405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80920" y="5454720"/>
            <a:ext cx="76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z jeden punkt przechodz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ieskończenie wiele 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30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1106640" y="1584000"/>
            <a:ext cx="7380000" cy="215892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93080" y="131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457360" y="1537920"/>
            <a:ext cx="6164280" cy="1800360"/>
          </a:xfrm>
          <a:prstGeom prst="line">
            <a:avLst/>
          </a:prstGeom>
          <a:ln w="1584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9700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16280" y="4419720"/>
            <a:ext cx="58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podzielił prostą m 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wie półpr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16280" y="5003640"/>
            <a:ext cx="59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kt A jest początkiem każdej z półprost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2360" y="1494000"/>
            <a:ext cx="6929640" cy="32400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82000" y="4284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2000" y="1989000"/>
            <a:ext cx="3914640" cy="1844640"/>
          </a:xfrm>
          <a:prstGeom prst="line">
            <a:avLst/>
          </a:prstGeom>
          <a:ln w="15840">
            <a:solidFill>
              <a:srgbClr val="99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22360" y="207972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92720" y="387828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6280" y="4554360"/>
            <a:ext cx="4049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ółprosta F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czątk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unkcie F i przechodząca przez punkt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20:26Z</dcterms:modified>
  <cp:revision>17</cp:revision>
  <dc:subject/>
  <dc:title>Slajd 1</dc:title>
</cp:coreProperties>
</file>